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285-3D8F-4108-8151-616BF54A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49640" y="510696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6E8-8CC5-41A4-A77C-ABB74A24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128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E77-BCFD-4ABA-BB74-F86A970D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784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72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496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784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72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109-47D2-4494-93E1-10D9AD0B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8251-D7B9-42CF-8F1D-E9356073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5B73-4CED-420F-AAED-9FBD48FD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0E26-F6B2-41DE-8F08-691FD0D7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8178-0977-43DF-AFD8-C097F5E9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3D0E-F8C4-44C0-BA63-3AEF87C2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640080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4F03-A2CA-4369-A457-2984126F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DAA6-8DF6-49F7-9480-4C4895DF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6EF-45FB-408D-B203-BCC1A7A7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128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4CBF-4752-426B-9327-A3C86727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04E2-C4C4-41D1-BDA3-21D8129C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49640" y="510696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1D31-E7AA-4377-8F75-858F4A5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2128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23E0-5FE8-4547-993B-D620B27B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784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07240" y="419112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496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784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07240" y="510696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83AF-043B-422D-9F0B-EB81551E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F8E-DF18-4237-8CCD-BF07ACA9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428-4E9C-40EC-9089-24089092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C0F-FD6D-435A-9BCA-68C92618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640080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BB0-6798-42D9-BF1A-16C500FD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B63-2DF3-416E-8617-D5269F11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1280" y="510696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351-FF9D-4178-BB7E-E1B7D89E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4964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1280" y="419112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49640" y="510696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844-73FB-4875-95BE-0747BE59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266652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0F96-9B3C-4A44-AD39-F32424D91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C6B1-13A4-4798-9B7D-D940A0BF4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0" y="4191120"/>
            <a:ext cx="540864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d By Tom Pal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Catapult Learning Se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…a new stadium they will 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…the books I just s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…a building standing very 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…some children running in the 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…a triangle they will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…chocolate chips I’m keeping w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…a basketball team not too g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…the minutes I will 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…the knocks on my front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534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ym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825200" y="4191120"/>
            <a:ext cx="6327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ght…spiders across the kitchen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8:34:01Z</dcterms:created>
  <dc:creator>Carol Kane</dc:creator>
  <dc:description/>
  <dc:language>en-US</dc:language>
  <cp:lastModifiedBy>Tom Palumbo</cp:lastModifiedBy>
  <dcterms:modified xsi:type="dcterms:W3CDTF">2009-02-26T19:37:28Z</dcterms:modified>
  <cp:revision>3</cp:revision>
  <dc:subject/>
  <dc:title>Numbers That  Rhyme And More</dc:title>
</cp:coreProperties>
</file>